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F21-4E90-4D1F-97CF-79E2F3A2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2C3-3DB4-422E-8F4B-2782D333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5E9-6A48-4AAF-B29C-F793CC01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8B4-46EB-430E-8CF9-B07B9859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FBA-880A-45FA-8587-A37CE308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270-6F4B-487D-8747-D9E9B1D3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C6A-6B3E-493F-A242-7A6E4BA6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7F1-00B8-44C5-8057-6BD98B21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6F7-7370-421E-AD63-86FA3C7C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CD7-5C4E-4A4B-90A5-D89AA2C0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A84-5E48-4156-BCF6-1D2C12F0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AE3-9E02-4B32-91FD-8A366FB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D187-5284-4681-A02C-4AFEF9392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38080"/>
            <a:ext cx="87631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L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TIME BUOYAGE SYSTEM &amp; OTHER AIDS TO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LA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ALA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457200"/>
            <a:ext cx="83822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Dang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at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ng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anger and Wreck Marking Bu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Floating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of Non-Lateral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066680"/>
            <a:ext cx="762120" cy="2895840"/>
          </a:xfrm>
          <a:custGeom>
            <a:avLst/>
            <a:gdLst>
              <a:gd name="textAreaLeft" fmla="*/ 0 w 762120"/>
              <a:gd name="textAreaRight" fmla="*/ 275040 w 7621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178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191120"/>
            <a:ext cx="8534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34:05Z</dcterms:created>
  <dc:creator>PWN</dc:creator>
  <dc:description/>
  <dc:language>en-US</dc:language>
  <cp:lastModifiedBy>PWN</cp:lastModifiedBy>
  <dcterms:modified xsi:type="dcterms:W3CDTF">2008-10-16T11:59:12Z</dcterms:modified>
  <cp:revision>2</cp:revision>
  <dc:subject/>
  <dc:title>Slide 1</dc:title>
</cp:coreProperties>
</file>